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6399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77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-20520" y="-9360"/>
            <a:ext cx="9186840" cy="68767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120" y="304776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актическое применение современных технологий в среде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4419720"/>
            <a:ext cx="5867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кладчи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ргей Ермилов (НПФ «Беркут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nIS &gt;&gt;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нтерфейс управления контент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25400" y="1371600"/>
          <a:ext cx="76914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371600"/>
                    <a:ext cx="7691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nIS &gt;&gt;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бонентские интерфейсы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S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2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nIS &gt;&gt; J2ME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нтерфейс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556080" cy="2871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3024360" cy="3013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4076640"/>
            <a:ext cx="7489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2ME –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поддерживаемые модели терминал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ok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100, 3200, 3300, 3510i, 3650, 3660, 5100, 5140, 6100, 6220, 6230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310i, 660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610, 6650, 6800, 6820, 7200, 7210, 7250i, 7610, 7650, 7700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,8910i, NG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iem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60, C62, MC60, SL55, M55, S55, C55, M50, MT50, SL45i, ST60,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nIS &gt;&gt; JUST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нтерфейс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s21" descr=""/>
          <p:cNvPicPr/>
          <p:nvPr/>
        </p:nvPicPr>
        <p:blipFill>
          <a:blip r:embed="rId1"/>
          <a:stretch/>
        </p:blipFill>
        <p:spPr>
          <a:xfrm>
            <a:off x="609480" y="1666800"/>
            <a:ext cx="82296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ell Broadcast &gt;&gt;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зможности по расширению аудитор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по статистике контент-провайдера «Информ Мобил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66680" y="1523880"/>
          <a:ext cx="6782040" cy="422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782040" cy="42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авнение эффективности интерактивного и неинтерактивног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S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нтерфейс и уровень потребления услу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11280" y="1397160"/>
            <a:ext cx="61200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963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Докладчик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гей Ермилов, руководитель направле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ing Network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НПФ «Берку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Адрес: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314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Санкт-Петербург , ул. Моисеенко, 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Тел./факс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+7 (812) 327-32-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E-mail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info@bercut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Web-site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www.bercut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есколько способов снижения ограничений в производительности транспортных систе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1524240"/>
            <a:ext cx="4114800" cy="1599480"/>
            <a:chOff x="457200" y="1524240"/>
            <a:chExt cx="4114800" cy="1599480"/>
          </a:xfrm>
        </p:grpSpPr>
        <p:sp>
          <p:nvSpPr>
            <p:cNvPr id="45" name=""/>
            <p:cNvSpPr/>
            <p:nvPr/>
          </p:nvSpPr>
          <p:spPr>
            <a:xfrm>
              <a:off x="685440" y="1981440"/>
              <a:ext cx="102888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457200" y="2324520"/>
              <a:ext cx="228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057400" y="1524240"/>
              <a:ext cx="1371600" cy="6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71520" y="1638360"/>
              <a:ext cx="11430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2P SMS Centr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57400" y="2324520"/>
              <a:ext cx="1371600" cy="68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71520" y="2438640"/>
              <a:ext cx="1143000" cy="45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2P SMS Centr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00200" y="2324520"/>
              <a:ext cx="45720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29000" y="2666880"/>
              <a:ext cx="1028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480" y="2781720"/>
              <a:ext cx="1028520" cy="3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MPP to C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600200" y="1866600"/>
              <a:ext cx="457200" cy="45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9920" y="2095560"/>
              <a:ext cx="9144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S7 Rou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648320" y="3276360"/>
            <a:ext cx="3428640" cy="799200"/>
            <a:chOff x="4648320" y="3276360"/>
            <a:chExt cx="3428640" cy="799200"/>
          </a:xfrm>
        </p:grpSpPr>
        <p:sp>
          <p:nvSpPr>
            <p:cNvPr id="57" name=""/>
            <p:cNvSpPr/>
            <p:nvPr/>
          </p:nvSpPr>
          <p:spPr>
            <a:xfrm>
              <a:off x="4876560" y="3390480"/>
              <a:ext cx="102888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648320" y="3619440"/>
              <a:ext cx="2282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05720" y="3276360"/>
              <a:ext cx="1371240" cy="6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19840" y="3390480"/>
              <a:ext cx="11430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ервер  голосования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905440" y="3619440"/>
              <a:ext cx="799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19560" y="3733560"/>
              <a:ext cx="685800" cy="3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MP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91040" y="3505680"/>
              <a:ext cx="914400" cy="3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SD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33520" y="3734280"/>
            <a:ext cx="4114440" cy="1599120"/>
            <a:chOff x="533520" y="3734280"/>
            <a:chExt cx="4114440" cy="1599120"/>
          </a:xfrm>
        </p:grpSpPr>
        <p:sp>
          <p:nvSpPr>
            <p:cNvPr id="65" name=""/>
            <p:cNvSpPr/>
            <p:nvPr/>
          </p:nvSpPr>
          <p:spPr>
            <a:xfrm>
              <a:off x="761760" y="4191480"/>
              <a:ext cx="1028880" cy="60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33520" y="4534200"/>
              <a:ext cx="228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360" y="3734280"/>
              <a:ext cx="1371240" cy="6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47840" y="3848400"/>
              <a:ext cx="11430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2P MMS Centr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33360" y="4534200"/>
              <a:ext cx="1371240" cy="6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47840" y="4648320"/>
              <a:ext cx="1143000" cy="45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2P MMS Centr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76160" y="4534200"/>
              <a:ext cx="45720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4960" y="4876560"/>
              <a:ext cx="1028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19440" y="4991400"/>
              <a:ext cx="1028520" cy="3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M7 to C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1676160" y="4075920"/>
              <a:ext cx="45720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6240" y="4305600"/>
              <a:ext cx="914400" cy="49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(MM1) Rout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дель сети услуг с разделением функций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0592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Функции Сервис Провайдер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ключение одного ко мно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та о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рификация и предтарификация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е использование транспо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ощение доступа контент-провайдеров к с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качества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истика и отче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nIS &gt;&gt;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нтент-агрегатор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447920" y="1143000"/>
          <a:ext cx="6781680" cy="47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43000"/>
                    <a:ext cx="678168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nIS &gt;&gt;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зможности системы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льтитранспортность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разных интерфейсов доступа к контенту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S, USSD, WAP, HTTP (J2ME appl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рификация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рж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шрутизация запросов в зависимости от местополож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SCid, L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шрутизация запросов в зависимости о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стандартных 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MP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истических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новление резидентного меню (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nIS &gt;&gt;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труктура контен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82760" y="1371600"/>
          <a:ext cx="45784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1371600"/>
                    <a:ext cx="45784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nIS &gt;&gt;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озможности системы (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граниченное число контент-провайд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реализации персональных сайтов абон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активный браузинг с использованием любого доступного абоненту транспор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MS, USSD, JUST, W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нение на сервере конт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росы на внешние систе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RL, HTTP/X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ование данных при загрузке провайдером графических файлов в форма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, Smart Message, Siemens 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ханизм поиска информации на сервере и отображения найденных  ссылок 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тификация абонента о платности уз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nIS &gt;&gt;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нтерфейс управления системо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47920" y="120024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2:22:01Z</dcterms:created>
  <dc:creator>Ermilov</dc:creator>
  <dc:description/>
  <dc:language>en-US</dc:language>
  <cp:lastModifiedBy>Ermilov</cp:lastModifiedBy>
  <dcterms:modified xsi:type="dcterms:W3CDTF">2004-12-02T22:53:57Z</dcterms:modified>
  <cp:revision>217</cp:revision>
  <dc:subject/>
  <dc:title>VA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24550364</vt:r8>
  </property>
  <property fmtid="{D5CDD505-2E9C-101B-9397-08002B2CF9AE}" pid="3" name="_AuthorEmail">
    <vt:lpwstr>Sergey.Ermilov@bercut.ru</vt:lpwstr>
  </property>
  <property fmtid="{D5CDD505-2E9C-101B-9397-08002B2CF9AE}" pid="4" name="_AuthorEmailDisplayName">
    <vt:lpwstr>Ermilov Sergey</vt:lpwstr>
  </property>
  <property fmtid="{D5CDD505-2E9C-101B-9397-08002B2CF9AE}" pid="5" name="_EmailSubject">
    <vt:lpwstr>презентация для CDMA 450</vt:lpwstr>
  </property>
  <property fmtid="{D5CDD505-2E9C-101B-9397-08002B2CF9AE}" pid="6" name="_ReviewingToolsShownOnce">
    <vt:lpwstr/>
  </property>
</Properties>
</file>