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0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6A-CD7A-4308-B29B-4BB28F36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952-E27A-45D0-9F0F-375A90F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610-B911-45A2-9945-8D9E6DE4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653-8223-40CA-B252-D1E4F214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665-0E36-4A0E-96E4-D33BC3FD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A9A-6D88-4778-BDF4-AEDF2B56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17B-6A7F-45DE-A064-5CB5DEFA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E1C-3AE3-4C9A-B0E8-AD0B6B5E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3C-95AD-4D40-8029-606FAB3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C4E-178B-4161-BD22-817EA74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442-EC45-4FA6-8698-E4ABE72F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3B7-CA2D-40A5-963D-FAD5647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FC9-EC4A-43B5-8875-DF8840AC9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38080" y="329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5.png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3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сотовых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2760" y="2900520"/>
            <a:ext cx="296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ООО «Инфо Соф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тел.:  +7 (812) 324 87 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факс: +7 (812) 324 88 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ntac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@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info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sof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www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info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sof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ru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582560" y="1857240"/>
            <a:ext cx="1830600" cy="226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45640" y="461628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Генеральный дир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Чередин Валери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A37-FE9E-4F2A-A459-40C90A52EF6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827360" y="846000"/>
            <a:ext cx="3076560" cy="5257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172120" y="1574640"/>
            <a:ext cx="2362320" cy="3800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165400" y="826920"/>
            <a:ext cx="3076560" cy="525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199120" y="1506600"/>
            <a:ext cx="2314440" cy="3971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622520" y="757080"/>
            <a:ext cx="6581520" cy="974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Использование новых технологий должно облегчать доступ к услуге или создавать новые дополнительные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12C-4544-4B9D-9828-4CABE99E9DBB}" type="slidenum">
              <a:t>10</a:t>
            </a:fld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2440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Задачи предоставления 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LBS 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 услуги 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Локатор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”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 всем абонентам целевой группы и стимулирование использования новых технологий решены двумя интерфейсами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 rot="21109800">
            <a:off x="5438880" y="2356920"/>
            <a:ext cx="2571480" cy="3457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 rot="21280800">
            <a:off x="1491840" y="2338560"/>
            <a:ext cx="2571840" cy="3457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35600" y="1533600"/>
            <a:ext cx="220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SMS 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интерфей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JAVA 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BEE-9277-4F3B-B32D-C98F6344A598}" type="slidenum">
              <a:t>11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560" y="282600"/>
            <a:ext cx="6657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Location Based Services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303090"/>
                </a:solidFill>
                <a:latin typeface="Verdana"/>
              </a:rPr>
              <a:t>LBS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Локально зависимые услуги – отдельный, специфический вид дополнительных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608120" y="1649520"/>
            <a:ext cx="4943520" cy="39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76F-1F49-4868-BC08-F93C935479D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Определение местоположения абонента позволяет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800600" y="1300320"/>
            <a:ext cx="3672000" cy="4809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5680" y="692280"/>
            <a:ext cx="745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Создавать новые, уникальны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Развивать существ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3400" y="1465200"/>
            <a:ext cx="397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Определение местоположения абонента – дополнительный  метод персонализации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952640" y="2536920"/>
            <a:ext cx="2571840" cy="34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3C1-F06E-4391-9D7E-D52D2BAED5B3}" type="slidenum">
              <a:t>13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4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241200"/>
            <a:ext cx="3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763640" y="1512720"/>
            <a:ext cx="2667240" cy="112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765440" y="3247920"/>
            <a:ext cx="2666880" cy="1190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1763640" y="4851360"/>
            <a:ext cx="3019320" cy="1257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902120" y="2460600"/>
            <a:ext cx="2867040" cy="1190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1480" y="358920"/>
            <a:ext cx="76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Удобная навигация в большом количестве дополнительных услуг, персонализация и адекватное применение современных технологий - необходимые условия успешности развития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VAS</a:t>
            </a:r>
            <a:r>
              <a:rPr b="0" lang="ru-RU" sz="1000" spc="-1" strike="noStrike">
                <a:solidFill>
                  <a:srgbClr val="303090"/>
                </a:solidFill>
                <a:latin typeface="Verdan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4902120" y="1368360"/>
            <a:ext cx="2867040" cy="1123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5454720" y="4940280"/>
            <a:ext cx="2419200" cy="1190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5438880" y="3745080"/>
            <a:ext cx="2419200" cy="119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0E4-6B24-4F64-9210-0D23D3106E36}" type="slidenum">
              <a:t>14</a:t>
            </a:fld>
          </a:p>
        </p:txBody>
      </p:sp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 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241200"/>
            <a:ext cx="3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90"/>
                </a:solidFill>
                <a:latin typeface="Verdana"/>
              </a:rPr>
              <a:t>ООО «Инфо Соф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763640" y="2043000"/>
            <a:ext cx="266724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65440" y="3166920"/>
            <a:ext cx="2666880" cy="119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763640" y="4348080"/>
            <a:ext cx="301932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02120" y="3157560"/>
            <a:ext cx="2867040" cy="119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1480" y="833400"/>
            <a:ext cx="76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Предоставление дополнительных услуг в сетях сотовых оп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Разработка программного обеспечения дополнительных услуг</a:t>
            </a:r>
            <a:r>
              <a:rPr b="0" lang="en-US" sz="1000" spc="-1" strike="noStrike">
                <a:solidFill>
                  <a:srgbClr val="30309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902120" y="2023920"/>
            <a:ext cx="2867040" cy="112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445000" y="4398840"/>
            <a:ext cx="2419560" cy="11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9E6-DE40-48C1-B373-B3D5B4271775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8160" y="100080"/>
            <a:ext cx="7826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2440" indent="2880"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Задачи, встающие в связи с развитием и ростом количества дополнительных услуг, перед сервис провайдерами и операторами сотовой связи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59560" y="3395520"/>
            <a:ext cx="2593800" cy="252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420920" y="3184560"/>
            <a:ext cx="2006640" cy="264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429000" y="3127320"/>
            <a:ext cx="2278080" cy="221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9920" y="1209600"/>
            <a:ext cx="732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Донести информацию о существовании услуг в удобной для    пользователя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Предоставить возможность сгруппировать некоторые наборы услуг, интересующие заданные целевые группы абонентов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Организовать удобный доступ абонентов к выбранной группе услуг и к каждой услуге в отд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14C-4CCB-4C00-A10A-0CFF92C061B4}" type="slidenum">
              <a:t>3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16000"/>
            <a:ext cx="32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333360"/>
            <a:ext cx="828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04960" y="1089000"/>
            <a:ext cx="3709800" cy="380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291280" y="1077840"/>
            <a:ext cx="3458880" cy="359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335480" y="4365720"/>
            <a:ext cx="173520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F7E-228D-412F-8CD5-304C771493A5}" type="slidenum">
              <a:t>4</a:t>
            </a:fld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400" y="420840"/>
            <a:ext cx="77868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Информация о дополнительных услугах должна быть доступна с мобильного телеф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568680" y="1771560"/>
            <a:ext cx="245736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934920" y="1736640"/>
            <a:ext cx="2460600" cy="330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319800" y="1835280"/>
            <a:ext cx="2452680" cy="32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EA2-65CD-4C59-B6A9-000CB4153CFE}" type="slidenum">
              <a:t>5</a:t>
            </a:fld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487520" y="353880"/>
            <a:ext cx="142092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00000" y="2165400"/>
            <a:ext cx="1971720" cy="1922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8920" y="4189320"/>
            <a:ext cx="1990440" cy="188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66840" y="636480"/>
            <a:ext cx="206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Бизнесме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Курс вал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Котировки 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Новости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88160" y="3597120"/>
            <a:ext cx="171288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5162400" y="1828800"/>
            <a:ext cx="3981600" cy="425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77000" y="2389320"/>
            <a:ext cx="225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Болельщ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Зенит чемпи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Формула </a:t>
            </a: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Чемпионат по хоккею</a:t>
            </a: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9760" y="4575240"/>
            <a:ext cx="1675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Домохозяй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Анекд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Гороск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Дет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EDD-52E7-4F06-9353-B9F651AF2655}" type="slidenum">
              <a:t>6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6640" y="11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Персонализированные порталы позволяют ненавязчиво информировать пользователя о появлении нов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739880" y="2367000"/>
            <a:ext cx="195264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518000" y="1736640"/>
            <a:ext cx="2571840" cy="34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286-A743-43D7-9FEC-3A4AAC8CEBE9}" type="slidenum">
              <a:t>7</a:t>
            </a:fld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763800" y="666720"/>
            <a:ext cx="5099040" cy="545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8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 Персонализация и современные технологии в дополнительных услуг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2492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Навигация и персонализация требуется не только на уровне услуг, но и внутри самих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8920" y="539640"/>
            <a:ext cx="72136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Предоставление удобного пользовательского интерфейса всем абонентам  целево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Развитие и персонализация дополнительных услуг с использованием новых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C56-D839-405D-B518-4F733750A4E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565360" y="3562200"/>
            <a:ext cx="1830600" cy="24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846840" y="3454560"/>
            <a:ext cx="1843200" cy="2477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811080" y="1389240"/>
            <a:ext cx="2059200" cy="2768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Задача удобного пользовательского интерфейса решается адекватным использованием технологий. </a:t>
            </a:r>
            <a:br>
              <a:rPr sz="1800"/>
            </a:b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Абоненту не важны технологии, ему необходимо удоб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386240" y="1306440"/>
            <a:ext cx="2792520" cy="300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124400">
            <a:off x="7289280" y="4522680"/>
            <a:ext cx="63828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EC1-C9AE-4D51-B23D-4B3842C31DA8}" type="slidenum">
              <a:t>9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2:53:12Z</dcterms:created>
  <dc:creator>zuch</dc:creator>
  <dc:description/>
  <dc:language>en-US</dc:language>
  <cp:lastModifiedBy>ф</cp:lastModifiedBy>
  <dcterms:modified xsi:type="dcterms:W3CDTF">2004-12-08T10:16:04Z</dcterms:modified>
  <cp:revision>162</cp:revision>
  <dc:subject/>
  <dc:title>ООО «Инфо Софт»</dc:title>
</cp:coreProperties>
</file>